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2084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208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208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208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208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208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208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208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2084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9640" y="765000"/>
            <a:ext cx="8136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9280" y="2205000"/>
            <a:ext cx="8062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The Birth and Death of Stars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-252360" y="5981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n-line Les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On-line Lessons: The Birth and Death of Star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45464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end of a Sun-like st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outer parts of the star (that formed the Red Giant) then drift off into space and cool down making a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lanetary Nebula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etary nebulae have nothing to do with planets, of course, they just look a bit like them in small telescope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ere you can see a planetary nebula called M57 with its White Dwarf in the midd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148360" y="1268280"/>
            <a:ext cx="3828960" cy="5040360"/>
          </a:xfrm>
          <a:prstGeom prst="rect">
            <a:avLst/>
          </a:prstGeom>
          <a:ln w="9360">
            <a:solidFill>
              <a:srgbClr val="1c1c1c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5148360" y="6381720"/>
            <a:ext cx="39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66"/>
                </a:solidFill>
                <a:latin typeface="Arial"/>
              </a:rPr>
              <a:t>Image from the Liverpool Tele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372360" y="907920"/>
            <a:ext cx="2520720" cy="25210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On-line Lessons: The Birth and Death of Star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56991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end of a massive st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 more massive (bigger) stars than the Sun, many more types of nuclear fusion can take pl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means several more Red Giant st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364500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ally, there 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3927600"/>
            <a:ext cx="8351640" cy="25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owever, eventually even the biggest stars run out of fuel and finally collap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 the biggest stars, this collapse causes a huge explosion called a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upernova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! A Supernova can be brighter than an entire galaxy of 100,000,000,000 star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72360" y="3429000"/>
            <a:ext cx="25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Simulation of the Death of the massive S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196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On-line Lessons: The Birth and Death of Star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hat is left after a Supernov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cause the star was so big, the collapse does not stop even with a White Dwarf, but an even more dense object called a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eutron Star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is ma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density of a Neutron star is about 1x10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18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kg/m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that is 1,000,000,000,000,000,000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metimes the collapse cannot stop at all and a Black Hole is made, from which not even light can escap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debris of the explosion is blown away and forms a glowing cloud called a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upernova Remnant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On-line Lessons: The Birth and Death of Star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664000" y="1052640"/>
            <a:ext cx="6011640" cy="54036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80" name=""/>
          <p:cNvSpPr/>
          <p:nvPr/>
        </p:nvSpPr>
        <p:spPr>
          <a:xfrm rot="16200000">
            <a:off x="-1119240" y="3144600"/>
            <a:ext cx="532800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Crab Supernova Remn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mage from the European Southern Observatory Very Large Tele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On-line Lessons: The Birth and Death of Star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irth and Death of Stars - 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1773360"/>
            <a:ext cx="8064720" cy="44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rs form in clouds of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eat from nuclear fusion, and gravity bal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en the hydrogen fuel runs out, a Red Giant is for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 Sun-like stars, a White Dwarf and Planetary Nebula are le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 massive stars, a Supernova explosion leaves behind a Supernova Remnant and a Neutron Star or perhaps even a Black Ho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n-line Lessons: The Birth and Death of Star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58920" y="1844640"/>
            <a:ext cx="288720" cy="129708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4292640"/>
            <a:ext cx="1008360" cy="86508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4356000" y="2997360"/>
            <a:ext cx="1008000" cy="151128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572000" y="5157360"/>
            <a:ext cx="2305080" cy="35892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765000"/>
            <a:ext cx="820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616572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Arial"/>
              </a:rPr>
              <a:t>Birth and Death of Stars -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197000"/>
            <a:ext cx="165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Collapsing clo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16000" y="364500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A new s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48000" y="4941720"/>
            <a:ext cx="10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d Gi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32360" y="5373720"/>
            <a:ext cx="1366920" cy="703800"/>
          </a:xfrm>
          <a:prstGeom prst="rect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ssive st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4360" y="981000"/>
            <a:ext cx="251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White Dwarf and Planetary Neb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83280" y="3860640"/>
            <a:ext cx="21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pernova Remnant and Neutron S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2360" y="3141720"/>
            <a:ext cx="1366920" cy="703800"/>
          </a:xfrm>
          <a:prstGeom prst="rect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n-like st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On-line Lessons: The Birth and Death of Star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hat are Sta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ars are large balls of hot g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look small because they are a long way away, but in fact many are bigger and brighter than the Su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heat of the star is made in the centre by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nuclear fusion reaction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re are lots of different </a:t>
            </a:r>
            <a:r>
              <a:rPr b="0" lang="en-GB" sz="3200" spc="-1" strike="noStrike">
                <a:solidFill>
                  <a:srgbClr val="ff99ff"/>
                </a:solidFill>
                <a:latin typeface="Arial"/>
              </a:rPr>
              <a:t>c</a:t>
            </a:r>
            <a:r>
              <a:rPr b="0" lang="en-GB" sz="3200" spc="-1" strike="noStrike">
                <a:solidFill>
                  <a:srgbClr val="99ccff"/>
                </a:solidFill>
                <a:latin typeface="Arial"/>
              </a:rPr>
              <a:t>o</a:t>
            </a:r>
            <a:r>
              <a:rPr b="0" lang="en-GB" sz="3200" spc="-1" strike="noStrike">
                <a:solidFill>
                  <a:srgbClr val="ccffcc"/>
                </a:solidFill>
                <a:latin typeface="Arial"/>
              </a:rPr>
              <a:t>l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o</a:t>
            </a:r>
            <a:r>
              <a:rPr b="0" lang="en-GB" sz="3200" spc="-1" strike="noStrike">
                <a:solidFill>
                  <a:srgbClr val="ffcc99"/>
                </a:solidFill>
                <a:latin typeface="Arial"/>
              </a:rPr>
              <a:t>u</a:t>
            </a: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r</a:t>
            </a:r>
            <a:r>
              <a:rPr b="0" lang="en-GB" sz="3200" spc="-1" strike="noStrike">
                <a:solidFill>
                  <a:srgbClr val="ff9933"/>
                </a:solidFill>
                <a:latin typeface="Arial"/>
              </a:rPr>
              <a:t>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of st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On-line Lessons: The Birth and Death of Star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57610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How are stars mad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ars are made (or “born”) in giant clouds of dust and g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part of the cloud shrinks because of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gravity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s it shrinks it becomes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hotter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and when it is hot enough,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nuclear reaction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can start in the centre…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d A Star is Bor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983200" y="1844640"/>
            <a:ext cx="29815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8785440" cy="57610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On-line Lessons: The Birth and Death of Star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atching stars being bo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3068640"/>
            <a:ext cx="3598920" cy="34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Bubble Neb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ere you can see the old dust and gas being blown away by the heat of the new s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mage from the Liverpool Tele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On-line Lessons: The Birth and Death of Star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hat happens nex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nce nuclear fusion is producing heat in the centre of the new star, this heats stops the rest of the star collaps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tar then stays almost exactly the same for a long time (about 10 billion years for a star like the Su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balance between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gravity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trying to make the star shrink and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heat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holding it up is called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rmodynamic Equilibriu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On-line Lessons: The Birth and Death of Star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life of a st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uring its “life” a star will not change very mu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ever, different stars are different colour, size and brigh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bigger a star, the hotter and brighter it is. Hot stars are </a:t>
            </a:r>
            <a:r>
              <a:rPr b="1" lang="en-GB" sz="3200" spc="-1" strike="noStrike">
                <a:solidFill>
                  <a:srgbClr val="bbe0e3"/>
                </a:solidFill>
                <a:latin typeface="Arial"/>
              </a:rPr>
              <a:t>Blu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. Smaller stars are less bright, cooler and </a:t>
            </a: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Re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ecause they are so hot, the bigger stars actually have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shorter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lives than the small, cool 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On-line Lessons: The Birth and Death of Star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How does a star “die”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ventually, the hydrogen (the “fuel” for the nuclear fusion) in the centre of the star will run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724360" y="2637000"/>
            <a:ext cx="3070440" cy="3208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24000" y="2852640"/>
            <a:ext cx="5040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349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 new heat is made and gravity will take over and the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centr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of the star will shri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1360" indent="-349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makes the very outside of the star “float up” and cool down, making the star look much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bigger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800" spc="-1" strike="noStrike">
                <a:solidFill>
                  <a:srgbClr val="ff9933"/>
                </a:solidFill>
                <a:latin typeface="Arial"/>
              </a:rPr>
              <a:t>redder -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ed Giant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s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1640" y="595008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33"/>
                </a:solidFill>
                <a:latin typeface="Arial"/>
              </a:rPr>
              <a:t>Antares – a Red Gi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On-line Lessons: The Birth and Death of Star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second Red Giant st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s the centre collapses, it becomes very hot again, eventually getting hot enough to start a new kind of nuclear fusion with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as the fu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the Red Giant shrinks and the star looks “normal” ag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does not last very long, though, as the Helium runs out very quickly and again the star forms a Red Gia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On-line Lessons: The Birth and Death of Star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569916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end of a Sun-like st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 a star like the Sun, no more nuclear fusion can take place, so the centre of the star will then keep collapsing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72360" y="906480"/>
            <a:ext cx="2592360" cy="25923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468360" y="3886200"/>
            <a:ext cx="8424720" cy="27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ventually it can become almost as small as the Earth, but with the same mass as a whole star! This very dense object is called a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hite Dwarf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piece of White Dwarf the size of a mobile phone would weigh as much as an elephant on the Eart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372360" y="3500280"/>
            <a:ext cx="25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Simulation of the Death of the S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96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3:42:39Z</dcterms:created>
  <dc:creator>Andy Newsam</dc:creator>
  <dc:description/>
  <dc:language>en-US</dc:language>
  <cp:lastModifiedBy>Ian Hemming</cp:lastModifiedBy>
  <dcterms:modified xsi:type="dcterms:W3CDTF">2006-11-30T22:03:08Z</dcterms:modified>
  <cp:revision>55</cp:revision>
  <dc:subject/>
  <dc:title>The Birth and Death of Stars</dc:title>
</cp:coreProperties>
</file>